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FEEC-320E-4D88-BE8A-79ED4D366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image from: http://www.nhm.ac.uk/about-us/news/2012/january/naming-new-plant-species-moves-online10742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cs.whfreeman.com/thelifewire8e/content/cat_010/f35006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bhs-sbi3u03.wikispaces.com/Transport+In+Vascular+Plants+(Sug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ic.edu/classes/bios/bios100/lectures/ps0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ictxel.com/flower-par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rairieplant.com/biosecure-growth-chamb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geopolicraticus.wordpress.com/tag/ecological-success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ps.plants.ox.ac.uk/langdalelab/evodev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web.uwlax.edu/bio203/s2012/harris_gran/classific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pinterest.com/pin/15101139372631419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www.biologyjunction.com/plant_structure_bi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junction.com/plant_structure_bi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2.yk.psu.edu/~sg3/ist311/games/team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miami.edu/dana/dox/ste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ixgood.com/monocots-and-dicots-roo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16D0-A7CF-4902-860C-F9570852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353-CC26-4D08-B4B2-3DE557DD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E292-500D-481C-94FC-3A40937C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92A-CD17-4124-8F9A-9840FA96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4C2-7773-4ABD-8072-B85D9EB9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9674-1784-4BD4-9165-F42560F2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48ED-2A7B-4B12-ADF2-5BB8A304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578E-D023-461B-8101-E84DD82E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A57-E7BE-41D5-9D48-235BEB5D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27B-B419-4297-BF2A-E236E6DC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6B5-F62C-4806-9D13-7F43A472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6114-8688-4404-A2EE-72487C70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2574-8D97-47EE-A4B0-E35CAB774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: Anatomy, Growth, and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 br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in Xy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76200" y="1600200"/>
            <a:ext cx="6589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in Ph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81400" y="1523880"/>
            <a:ext cx="4533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 Cross-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5400" y="1828800"/>
            <a:ext cx="7000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a 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46040" y="1981080"/>
            <a:ext cx="645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 Reg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87520" y="1981080"/>
            <a:ext cx="6168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57200" y="1600200"/>
            <a:ext cx="6504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1992240"/>
            <a:ext cx="838224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9360" y="1981080"/>
            <a:ext cx="6243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d into 2 major groups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oco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co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ich inclu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dico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35240" y="3048120"/>
            <a:ext cx="46735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874880"/>
            <a:ext cx="86104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istematic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2190600"/>
            <a:ext cx="777240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s: Monocot or Dic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s: Monocot or Dic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4960" y="1676520"/>
            <a:ext cx="8537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s: Monocot or Dic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2254320"/>
            <a:ext cx="777240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04:14:37Z</dcterms:created>
  <dc:creator>rubina khan</dc:creator>
  <dc:description/>
  <dc:language>en-US</dc:language>
  <cp:lastModifiedBy>rubina khan</cp:lastModifiedBy>
  <dcterms:modified xsi:type="dcterms:W3CDTF">2015-01-16T11:41:02Z</dcterms:modified>
  <cp:revision>30</cp:revision>
  <dc:subject/>
  <dc:title>Plants</dc:title>
</cp:coreProperties>
</file>